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A9DA-79E5-49C7-8323-4B81CD09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B0B-C4C6-48C3-A2B6-89C91F4C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E4A-97FE-4DF9-80DD-185B7D4F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304-76AC-45E2-98AA-63184F5D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D16-5337-466D-9440-838FE037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B9B-D04F-4FCC-9FAA-F55D13D6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DBD3-A785-43F1-B0DF-24337485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DEA-77F0-42CB-A5A9-6E67477A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DFBA-0E60-4570-ADC6-1AEC0250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3B64-301F-4B8E-9416-CFDE43A6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CB44-F089-4125-A111-D43C41E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0BAF-3462-4410-8DAF-4AEEF47D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BF7-ED2D-4C42-9AB5-2CCA945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981-6041-46C7-88EE-73A6F966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C5E1-1F8A-4A26-AB48-D1FA72C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09B-30A6-4C3E-B4A3-A17961C4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4B2-8C00-4ED5-B803-B2BDA234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63E4-4849-4F43-8586-87A805BB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C4D4-9CF9-4C55-B44E-84110B9E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6A0-6BD1-4C92-9B8B-22BEC15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B99-F689-4685-8874-FC492FE2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92E-5212-46C8-8347-95AC4A00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1D8-91B5-4ABA-B6BE-7D4EC37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A84-1959-4E20-9F07-D32EC340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416F-4D99-4C25-96C4-F5F7247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376-C47B-4FA6-931D-EFCD167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F109-227C-4A0B-9AD5-D3216BB80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1" lang="en-US" sz="22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68A-5845-4481-835E-0D49353AE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dventure"/>
              </a:rPr>
              <a:t>Загадки о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машних </a:t>
            </a:r>
            <a:r>
              <a:rPr b="1" lang="ru-RU" sz="4800" spc="-1" strike="noStrike">
                <a:solidFill>
                  <a:srgbClr val="000000"/>
                </a:solidFill>
                <a:latin typeface="Adventure"/>
              </a:rPr>
              <a:t>животных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7" name="Picture 4" descr="C:\Documents and Settings\Loner\Рабочий стол\загадки\собака.png"/>
          <p:cNvPicPr/>
          <p:nvPr/>
        </p:nvPicPr>
        <p:blipFill>
          <a:blip r:embed="rId1"/>
          <a:stretch/>
        </p:blipFill>
        <p:spPr>
          <a:xfrm>
            <a:off x="-357120" y="2357280"/>
            <a:ext cx="5143320" cy="3457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5174640" y="27806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ля детей от 3 - 4 лет)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свинка"/>
          <p:cNvPicPr/>
          <p:nvPr/>
        </p:nvPicPr>
        <p:blipFill>
          <a:blip r:embed="rId1"/>
          <a:srcRect l="11953" t="1785" r="15018" b="0"/>
          <a:stretch/>
        </p:blipFill>
        <p:spPr>
          <a:xfrm>
            <a:off x="4716360" y="1557360"/>
            <a:ext cx="4033800" cy="3957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37080" y="1262520"/>
            <a:ext cx="467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хвостика – крючок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носа – пятачок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ачок дырявый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рючок вертлявый.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собака2"/>
          <p:cNvPicPr/>
          <p:nvPr/>
        </p:nvPicPr>
        <p:blipFill>
          <a:blip r:embed="rId1"/>
          <a:stretch/>
        </p:blipFill>
        <p:spPr>
          <a:xfrm>
            <a:off x="900000" y="1268280"/>
            <a:ext cx="2760840" cy="3959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4694040" y="1838880"/>
            <a:ext cx="3946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хозяином дружи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сторожи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ет под крылечком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хвост колечком.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утка"/>
          <p:cNvPicPr/>
          <p:nvPr/>
        </p:nvPicPr>
        <p:blipFill>
          <a:blip r:embed="rId1"/>
          <a:stretch/>
        </p:blipFill>
        <p:spPr>
          <a:xfrm>
            <a:off x="539640" y="1052640"/>
            <a:ext cx="3498840" cy="468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3999960" y="1052280"/>
            <a:ext cx="42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ождем она гуля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ипать травку обожа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852720" y="234864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Кр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998160" y="3068280"/>
            <a:ext cx="290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шутка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конечно это -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862160" y="2348640"/>
            <a:ext cx="13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чи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Это были домашние животные</a:t>
            </a:r>
            <a:endParaRPr b="1" lang="en-US" sz="5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324000" y="4653000"/>
            <a:ext cx="1295280" cy="576360"/>
            <a:chOff x="324000" y="4653000"/>
            <a:chExt cx="1295280" cy="576360"/>
          </a:xfrm>
        </p:grpSpPr>
        <p:sp>
          <p:nvSpPr>
            <p:cNvPr id="181" name="Rectangle 4"/>
            <p:cNvSpPr/>
            <p:nvPr/>
          </p:nvSpPr>
          <p:spPr>
            <a:xfrm>
              <a:off x="324000" y="4653000"/>
              <a:ext cx="1008000" cy="504720"/>
            </a:xfrm>
            <a:prstGeom prst="rect">
              <a:avLst/>
            </a:prstGeom>
            <a:solidFill>
              <a:srgbClr val="fef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82" name="Rectangle 5"/>
            <p:cNvSpPr/>
            <p:nvPr/>
          </p:nvSpPr>
          <p:spPr>
            <a:xfrm>
              <a:off x="1332000" y="4724280"/>
              <a:ext cx="287280" cy="505080"/>
            </a:xfrm>
            <a:prstGeom prst="rect">
              <a:avLst/>
            </a:prstGeom>
            <a:solidFill>
              <a:srgbClr val="fef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183" name="Rectangle 4"/>
          <p:cNvSpPr/>
          <p:nvPr/>
        </p:nvSpPr>
        <p:spPr>
          <a:xfrm>
            <a:off x="6797520" y="6208560"/>
            <a:ext cx="6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4571280" y="4031280"/>
            <a:ext cx="38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это? Не пой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0" name="Picture 3" descr="корова"/>
          <p:cNvPicPr/>
          <p:nvPr/>
        </p:nvPicPr>
        <p:blipFill>
          <a:blip r:embed="rId1"/>
          <a:stretch/>
        </p:blipFill>
        <p:spPr>
          <a:xfrm>
            <a:off x="324000" y="620640"/>
            <a:ext cx="4782960" cy="4680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6306120" y="136764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чит: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59280" y="249156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Му-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»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0,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гусь"/>
          <p:cNvPicPr/>
          <p:nvPr/>
        </p:nvPicPr>
        <p:blipFill>
          <a:blip r:embed="rId1"/>
          <a:stretch/>
        </p:blipFill>
        <p:spPr>
          <a:xfrm>
            <a:off x="4932360" y="1052640"/>
            <a:ext cx="3357720" cy="46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367920" y="1600560"/>
            <a:ext cx="3861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пит, гогоч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щипнуть меня хоч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иду, боюсь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о?..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арашка"/>
          <p:cNvPicPr/>
          <p:nvPr/>
        </p:nvPicPr>
        <p:blipFill>
          <a:blip r:embed="rId1"/>
          <a:srcRect l="6028" t="6028" r="6130" b="6130"/>
          <a:stretch/>
        </p:blipFill>
        <p:spPr>
          <a:xfrm>
            <a:off x="4788000" y="134136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325800" y="1557720"/>
            <a:ext cx="4547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лелись густые травы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дрявились луга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и сам я весь кудрявый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завитком рога.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кошка"/>
          <p:cNvPicPr/>
          <p:nvPr/>
        </p:nvPicPr>
        <p:blipFill>
          <a:blip r:embed="rId1"/>
          <a:stretch/>
        </p:blipFill>
        <p:spPr>
          <a:xfrm>
            <a:off x="468360" y="765000"/>
            <a:ext cx="3836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3713040" y="3213000"/>
            <a:ext cx="558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орога плачет, коготки пряч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 в комнату войдё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урлычет, запоёт.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урица"/>
          <p:cNvPicPr/>
          <p:nvPr/>
        </p:nvPicPr>
        <p:blipFill>
          <a:blip r:embed="rId1"/>
          <a:stretch/>
        </p:blipFill>
        <p:spPr>
          <a:xfrm>
            <a:off x="611280" y="1413000"/>
            <a:ext cx="38178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4357800" y="2349000"/>
            <a:ext cx="35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Ко-ко-ко, ко-ко-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Не ходите дале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»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5240" y="112500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рнышко клю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ок зовет: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лошадь"/>
          <p:cNvPicPr/>
          <p:nvPr/>
        </p:nvPicPr>
        <p:blipFill>
          <a:blip r:embed="rId1"/>
          <a:stretch/>
        </p:blipFill>
        <p:spPr>
          <a:xfrm>
            <a:off x="4284720" y="1700280"/>
            <a:ext cx="4545000" cy="3959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326160" y="2277000"/>
            <a:ext cx="429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копытами скучу, стучу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качу, скачу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ива вьется на ветру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о? 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овца"/>
          <p:cNvPicPr/>
          <p:nvPr/>
        </p:nvPicPr>
        <p:blipFill>
          <a:blip r:embed="rId1"/>
          <a:stretch/>
        </p:blipFill>
        <p:spPr>
          <a:xfrm>
            <a:off x="3851280" y="1557360"/>
            <a:ext cx="4902120" cy="3960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621720" y="2126880"/>
            <a:ext cx="33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ядет, не тк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людей одева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петух"/>
          <p:cNvPicPr/>
          <p:nvPr/>
        </p:nvPicPr>
        <p:blipFill>
          <a:blip r:embed="rId1"/>
          <a:stretch/>
        </p:blipFill>
        <p:spPr>
          <a:xfrm>
            <a:off x="4173480" y="1628640"/>
            <a:ext cx="4970520" cy="4438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2125800" y="29235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Ку-ка-ре-ку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421440" y="378864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ет.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6880" y="213300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ьше всех встает,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1:38:24Z</dcterms:created>
  <dc:creator>Customer</dc:creator>
  <dc:description/>
  <dc:language>en-US</dc:language>
  <cp:lastModifiedBy>Лариса Ивановна</cp:lastModifiedBy>
  <dcterms:modified xsi:type="dcterms:W3CDTF">2012-01-10T11:26:43Z</dcterms:modified>
  <cp:revision>17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