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6BCD-A127-445A-9F5F-145C9F5F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8619-7D2F-4BF9-A6FF-F17E83AE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8E7D-2CB5-418F-B4B9-A3EB82FE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938C-637B-47C5-8847-4D8FA415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18DE-F956-4EEE-A00A-759F9E67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CDC5-6DCF-4DBB-A252-A59C4B70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45AC-C829-418F-B793-6FC7B85A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91CC-D1A4-4DB1-AC32-358BA3ED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0DB1-7A6A-4662-B772-C2C6B235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A2A1-656C-4371-B701-3B8CBFA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C147-DD40-4E47-89D0-A04A59C9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78E4-B619-4BC9-B28D-5558FB7E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DC11-999B-4633-A45C-0631F0E5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9E07-389E-4455-8A58-7ABA7597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6257-2E63-4290-A0CF-7D70FE33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6D40-BDFE-4469-B388-E32CE2BF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3324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155120"/>
            <a:ext cx="264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4402-1EE7-4D78-AB0D-9301B1AC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F2BD-8622-40BC-9D84-A941088A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B6A0-22F8-4291-9E9C-76D108EF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FD14-510D-4420-969F-E3F50C6A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83BB0-30E2-4BD5-933C-96D2D04A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9460-B8AC-497E-928E-4EB15BE2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5512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9A55-B8F3-4DEC-B00C-4C0DF76D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33240"/>
            <a:ext cx="40158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5512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F8357-99C1-434C-83F4-188946C0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eda8"/>
            </a:gs>
            <a:gs pos="50000">
              <a:srgbClr val="ffffff"/>
            </a:gs>
            <a:gs pos="100000">
              <a:srgbClr val="f6eda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0" y="0"/>
            <a:ext cx="9144000" cy="1447920"/>
            <a:chOff x="0" y="0"/>
            <a:chExt cx="9144000" cy="144792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fdedc6"/>
                </a:gs>
                <a:gs pos="100000">
                  <a:srgbClr val="f7c03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981080" y="380880"/>
              <a:ext cx="71629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6eda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9"/>
            <p:cNvSpPr/>
            <p:nvPr/>
          </p:nvSpPr>
          <p:spPr>
            <a:xfrm>
              <a:off x="0" y="1143000"/>
              <a:ext cx="9144000" cy="304920"/>
            </a:xfrm>
            <a:prstGeom prst="rect">
              <a:avLst/>
            </a:prstGeom>
            <a:solidFill>
              <a:srgbClr val="73c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26" descr="02"/>
          <p:cNvPicPr/>
          <p:nvPr/>
        </p:nvPicPr>
        <p:blipFill>
          <a:blip r:embed="rId2"/>
          <a:stretch/>
        </p:blipFill>
        <p:spPr>
          <a:xfrm>
            <a:off x="7715160" y="77760"/>
            <a:ext cx="1067040" cy="1047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0766-F096-4979-B1BC-3B8FF83DA4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24" descr=""/>
          <p:cNvPicPr/>
          <p:nvPr/>
        </p:nvPicPr>
        <p:blipFill>
          <a:blip r:embed="rId3"/>
          <a:stretch/>
        </p:blipFill>
        <p:spPr>
          <a:xfrm>
            <a:off x="8424720" y="95400"/>
            <a:ext cx="673200" cy="564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5" descr=""/>
          <p:cNvPicPr/>
          <p:nvPr/>
        </p:nvPicPr>
        <p:blipFill>
          <a:blip r:embed="rId4"/>
          <a:srcRect l="0" t="0" r="1014" b="0"/>
          <a:stretch/>
        </p:blipFill>
        <p:spPr>
          <a:xfrm>
            <a:off x="8001000" y="311040"/>
            <a:ext cx="914400" cy="774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456840" y="1143000"/>
            <a:ext cx="845820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d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2514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6ed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7c0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02"/>
          <p:cNvPicPr/>
          <p:nvPr/>
        </p:nvPicPr>
        <p:blipFill>
          <a:blip r:embed="rId2"/>
          <a:stretch/>
        </p:blipFill>
        <p:spPr>
          <a:xfrm>
            <a:off x="4800600" y="103320"/>
            <a:ext cx="4162320" cy="408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solidFill>
            <a:srgbClr val="73c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5" descr="02"/>
          <p:cNvPicPr/>
          <p:nvPr/>
        </p:nvPicPr>
        <p:blipFill>
          <a:blip r:embed="rId3"/>
          <a:stretch/>
        </p:blipFill>
        <p:spPr>
          <a:xfrm>
            <a:off x="1066680" y="3048120"/>
            <a:ext cx="1981440" cy="194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4"/>
          <a:srcRect l="0" t="0" r="8662" b="0"/>
          <a:stretch/>
        </p:blipFill>
        <p:spPr>
          <a:xfrm>
            <a:off x="6781680" y="1538280"/>
            <a:ext cx="205740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"/>
          <p:cNvPicPr/>
          <p:nvPr/>
        </p:nvPicPr>
        <p:blipFill>
          <a:blip r:embed="rId5"/>
          <a:srcRect l="0" t="0" r="1011" b="0"/>
          <a:stretch/>
        </p:blipFill>
        <p:spPr>
          <a:xfrm>
            <a:off x="4419720" y="2440080"/>
            <a:ext cx="4495680" cy="380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03"/>
          <p:cNvPicPr/>
          <p:nvPr/>
        </p:nvPicPr>
        <p:blipFill>
          <a:blip r:embed="rId6"/>
          <a:stretch/>
        </p:blipFill>
        <p:spPr>
          <a:xfrm>
            <a:off x="0" y="4876920"/>
            <a:ext cx="1382760" cy="198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8001000" y="6415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3324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949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724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781680" y="6553080"/>
            <a:ext cx="10670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D22A-AB51-4FEE-B56C-3948A30EF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006600"/>
                </a:solidFill>
                <a:latin typeface="Arial"/>
              </a:rPr>
              <a:t>Загадки о диких животных</a:t>
            </a:r>
            <a:endParaRPr b="1" lang="en-US" sz="55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916360" y="2636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етей 4-5 л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7956720" y="6453360"/>
            <a:ext cx="1008000" cy="288720"/>
          </a:xfrm>
          <a:prstGeom prst="rect">
            <a:avLst/>
          </a:prstGeom>
          <a:solidFill>
            <a:srgbClr val="73c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3399480" y="2441160"/>
            <a:ext cx="5538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й белый брат во льдах жи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рыбу ест морску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я люблю пчелиный м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ягоду лес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медведь"/>
          <p:cNvPicPr/>
          <p:nvPr/>
        </p:nvPicPr>
        <p:blipFill>
          <a:blip r:embed="rId1"/>
          <a:stretch/>
        </p:blipFill>
        <p:spPr>
          <a:xfrm>
            <a:off x="900000" y="2276640"/>
            <a:ext cx="2394000" cy="3240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3420000" y="404640"/>
            <a:ext cx="24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414320" y="2541600"/>
            <a:ext cx="40442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ала между ёл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ушечка с игол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онечко леж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м вдруг убеж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еж"/>
          <p:cNvPicPr/>
          <p:nvPr/>
        </p:nvPicPr>
        <p:blipFill>
          <a:blip r:embed="rId1"/>
          <a:stretch/>
        </p:blipFill>
        <p:spPr>
          <a:xfrm>
            <a:off x="684360" y="2133720"/>
            <a:ext cx="314136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132000" y="404640"/>
            <a:ext cx="24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Ё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68360" y="2692080"/>
            <a:ext cx="43909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жая птич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урятник приш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х кур переч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с собой унесл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лиса"/>
          <p:cNvPicPr/>
          <p:nvPr/>
        </p:nvPicPr>
        <p:blipFill>
          <a:blip r:embed="rId1"/>
          <a:stretch/>
        </p:blipFill>
        <p:spPr>
          <a:xfrm>
            <a:off x="5364000" y="2205000"/>
            <a:ext cx="2656080" cy="3238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3852360" y="42696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Л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4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829440" y="2565360"/>
            <a:ext cx="421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осого нет берлог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ужна ему н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врагов спасают ног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от голода – к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заяц"/>
          <p:cNvPicPr/>
          <p:nvPr/>
        </p:nvPicPr>
        <p:blipFill>
          <a:blip r:embed="rId1"/>
          <a:stretch/>
        </p:blipFill>
        <p:spPr>
          <a:xfrm>
            <a:off x="5219640" y="206064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3564360" y="42696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4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4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783240" y="2492280"/>
            <a:ext cx="4908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ерька узнали мы с т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вум таким примет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шубе серенькой зи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 рыжей шубке - лет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белка"/>
          <p:cNvPicPr/>
          <p:nvPr/>
        </p:nvPicPr>
        <p:blipFill>
          <a:blip r:embed="rId1"/>
          <a:stretch/>
        </p:blipFill>
        <p:spPr>
          <a:xfrm>
            <a:off x="900000" y="1989000"/>
            <a:ext cx="280692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262680" y="35568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хома"/>
          <p:cNvPicPr/>
          <p:nvPr/>
        </p:nvPicPr>
        <p:blipFill>
          <a:blip r:embed="rId1"/>
          <a:stretch/>
        </p:blipFill>
        <p:spPr>
          <a:xfrm>
            <a:off x="971640" y="1989000"/>
            <a:ext cx="2436840" cy="3240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4180320" y="2543040"/>
            <a:ext cx="439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устраиваюсь лов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меня с собой клад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кладов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щек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я хитренький како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21440" y="40464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ХОМ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Это были дикие животные нашего края.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956720" y="6093000"/>
            <a:ext cx="1187280" cy="626760"/>
          </a:xfrm>
          <a:prstGeom prst="rect">
            <a:avLst/>
          </a:prstGeom>
          <a:solidFill>
            <a:srgbClr val="73c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875240" y="6458400"/>
            <a:ext cx="56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и: Филиппова И.В., Абанникова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2:47:47Z</dcterms:created>
  <dc:creator>Customer</dc:creator>
  <dc:description/>
  <dc:language>en-US</dc:language>
  <cp:lastModifiedBy>Лариса Ивановна</cp:lastModifiedBy>
  <dcterms:modified xsi:type="dcterms:W3CDTF">2011-05-13T13:44:52Z</dcterms:modified>
  <cp:revision>31</cp:revision>
  <dc:subject/>
  <dc:title>Загадки о диких животны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